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37A-66DC-47A6-8FDB-A9719BA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02C-90CB-4EE3-8B33-84D5627F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A2D-A242-4076-96B8-07A7EBA9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208-B88D-4252-8465-0E8EF3E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BE8-CEA6-448A-8E0B-272DA944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32BC-F07C-4A2F-BECB-3CC9F54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1A8-0039-4771-8135-89E5277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08F6-7615-490E-A8AF-19F5526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A0C-649C-4543-89A4-2285D79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873-7357-42F2-BBC9-F69CD26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A38-4DE6-4282-BAA2-AC5E84A0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343-2EF7-4C82-A5F9-EC776B2F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98E1-66C7-44B8-9D46-BB35794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17F-5340-4723-ABDD-78FA1D5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2CDF-5D5D-46F4-BAAD-0C2849B8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85F-B61E-4A25-A963-E53FEF2F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388C-AAF9-4710-9F0E-B791CAFB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1049-9E48-485A-A64A-AF5B8DBE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D01A-68B9-41F5-82FA-D4AB27A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81DD-915B-497C-9BB6-F1023476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1122-8241-4A9D-A33F-C61BE71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2DAD-EA11-4469-964F-93148DC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EF4-D329-4F16-96B0-5A7CEE3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4AAB-6965-423E-9FCA-CBEA4100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08E2-1491-4DF9-8362-509272D0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75E9-7623-40B2-829C-71A070A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E0B1-983C-4DB8-A06D-5F40C5E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A4C3-F2AA-400B-9B0D-3ADAE3F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7B26-2F80-4C1E-8672-E0EDBBF2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D92E-8E0C-4E0C-9F0C-4782E27E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6250-D8AE-4E0A-A800-D08418C5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34BEB-C5E5-4336-AE92-BC28739E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EB23-712B-4D48-98AF-EBF44769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793-83F7-458E-A781-9AF9DD4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BCFE-9FF5-4A20-888A-665866CC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8C3D-F81A-4A26-A7F2-F205D86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50B4-C5B1-48CC-AE13-6846239D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D904-DD7D-4D55-BEEB-418BA88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1DEA-70D6-4A13-B9A5-B3D5638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4D7B-16A1-4C09-A1C7-D051DE7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6F60-53F5-4148-AA6D-8C4AE696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FE77-8376-45B7-A6CB-A0F3CB21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56E2-C532-4A63-9F72-2BB44C90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B4E-656D-4D48-95E3-D96C9F0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FC1-A96F-43B1-8034-4C2DE9A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3DC-5152-43F1-997C-9A0E55B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37C-800D-4B32-AD8D-EB17ADF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8B5-F1AF-4CFF-B34F-D517484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DBB-9847-47C9-9B98-EB37220A81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6712-5829-4ADC-8CED-9B2AC3F438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E6A3-CAE6-49C4-AC6F-F62C04D1AB9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CAE-58CA-4967-B98D-788C0ADACA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81160" y="1255680"/>
            <a:ext cx="8710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i Mi &amp; Zhi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E 632 – Fall,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versity of Virgi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CRCCtrl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CRCGenerator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CRCLoopBody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隶书"/>
              </a:rPr>
              <a:t>Optimiza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etric: Total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activ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eakag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eff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kg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Kno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wer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DD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(subthreshold desig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bust, require C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horten operation d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"/>
              <p:cNvSpPr txBox="1"/>
              <p:nvPr/>
            </p:nvSpPr>
            <p:spPr>
              <a:xfrm>
                <a:off x="2004840" y="3124080"/>
                <a:ext cx="4810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echnology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M 90nm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ircuit Descriptio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tli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imulation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hematic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FPGA Advantage 7.0 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Cadence 2005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ulator: Ocean with Spect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diagram1.bmp"/>
          <p:cNvPicPr/>
          <p:nvPr/>
        </p:nvPicPr>
        <p:blipFill>
          <a:blip r:embed="rId1"/>
          <a:srcRect l="0" t="2180" r="0" b="0"/>
          <a:stretch/>
        </p:blipFill>
        <p:spPr>
          <a:xfrm>
            <a:off x="1185840" y="2209680"/>
            <a:ext cx="67723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Spectre Simulation Res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86600" cy="4684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600200" y="5334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Data word: 0010 1001 0010 11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Key word:    1101 0010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Output:       1011 0001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kage Current 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Content Placeholder 8" descr="Snap1.jpg"/>
          <p:cNvPicPr/>
          <p:nvPr/>
        </p:nvPicPr>
        <p:blipFill>
          <a:blip r:embed="rId1"/>
          <a:stretch/>
        </p:blipFill>
        <p:spPr>
          <a:xfrm>
            <a:off x="2895480" y="1371600"/>
            <a:ext cx="5857920" cy="4495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152280" y="3581280"/>
                <a:ext cx="2743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TextBox 11"/>
          <p:cNvSpPr/>
          <p:nvPr/>
        </p:nvSpPr>
        <p:spPr>
          <a:xfrm>
            <a:off x="380880" y="1371600"/>
            <a:ext cx="23623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nential Reduction as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creases due to DIBL eff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4920" y="480060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akage Current is independent of  CLK 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Current Waveform in On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7010280" cy="4334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2133720"/>
            <a:ext cx="220968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avg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 = α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0→1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f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eff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DD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nstanti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2133720"/>
            <a:ext cx="23623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7"/>
          <p:cNvSpPr/>
          <p:nvPr/>
        </p:nvSpPr>
        <p:spPr>
          <a:xfrm flipV="1">
            <a:off x="0" y="2209320"/>
            <a:ext cx="23623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152280" y="3733920"/>
            <a:ext cx="2057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A higher CLK rate helps reduce energy consumption for a certa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tal Energy per CRC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52480"/>
          <a:ext cx="4038120" cy="4495680"/>
        </p:xfrm>
        <a:graphic>
          <a:graphicData uri="http://schemas.openxmlformats.org/drawingml/2006/table">
            <a:tbl>
              <a:tblPr/>
              <a:tblGrid>
                <a:gridCol w="785160"/>
                <a:gridCol w="852840"/>
                <a:gridCol w="1024200"/>
                <a:gridCol w="1375920"/>
              </a:tblGrid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8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6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3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Text Placeholder 29"/>
          <p:cNvGraphicFramePr/>
          <p:nvPr/>
        </p:nvGraphicFramePr>
        <p:xfrm>
          <a:off x="4724280" y="3429000"/>
          <a:ext cx="4419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Text Placeholder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4419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m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y Consumption P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Snap2.jpg"/>
          <p:cNvPicPr/>
          <p:nvPr/>
        </p:nvPicPr>
        <p:blipFill>
          <a:blip r:embed="rId1"/>
          <a:stretch/>
        </p:blipFill>
        <p:spPr>
          <a:xfrm>
            <a:off x="3164040" y="1600200"/>
            <a:ext cx="597996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28600" y="1523880"/>
            <a:ext cx="289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ptimal supply voltage is around  0.3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energy consumption starts to dominate in the sub-threshold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current is taking up a large proportion of average cur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C-processing circuit is simulated in FPGA and Ca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erage and leakage currents are simul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ergy consumption comparison for different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ptimization for minimum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 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multiple power supplies to speed up the critical p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up some parts of the circuit to increase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high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MOS to the PDN to reduce leak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Q and 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security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" descr="RFID_backscatter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strain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– foremost constra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seek to find a feasible way of implementing low-power data encryption on RFID ta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ed the core hash function (i.e., CRC-Half) of CRC-MAC with PTM 90nm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nergy at different operating vol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ve an optimal operating voltage point for CRC-MA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the trend of leakage current of the circu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1. A hardware implementation of CRC-MA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481040" y="1757520"/>
            <a:ext cx="61819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254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2. C implementation of CRC-MAC as keyed one-way 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781280" y="1662120"/>
            <a:ext cx="5305320" cy="4648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773360" y="2046240"/>
            <a:ext cx="216360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398680" y="5475240"/>
            <a:ext cx="4106880" cy="554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rcuit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3. A symbol view of CRC-Hal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Content Placeholder 4" descr="CRCHalf_sch.bmp"/>
          <p:cNvPicPr/>
          <p:nvPr/>
        </p:nvPicPr>
        <p:blipFill>
          <a:blip r:embed="rId1"/>
          <a:srcRect l="2509" t="29957" r="2509" b="16643"/>
          <a:stretch/>
        </p:blipFill>
        <p:spPr>
          <a:xfrm>
            <a:off x="217440" y="1879560"/>
            <a:ext cx="8690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RCEnable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30:54Z</dcterms:created>
  <dc:creator>QI MI</dc:creator>
  <dc:description/>
  <dc:language>en-US</dc:language>
  <cp:lastModifiedBy>JCC</cp:lastModifiedBy>
  <dcterms:modified xsi:type="dcterms:W3CDTF">2008-12-02T18:57:59Z</dcterms:modified>
  <cp:revision>293</cp:revision>
  <dc:subject/>
  <dc:title>Implementing Low-Power CRC-MAC for RFID Circuits</dc:title>
</cp:coreProperties>
</file>